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3C82-9423-4C26-B4E5-C19327C246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D2C6-ED1C-4A77-AA5B-870D584FC5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696A-E743-4357-A3C4-D81F7938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B16E-218A-4FC1-8992-720AB982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376D-AD78-45F9-B419-0E92D9842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241F-7D1F-4F50-8C91-8950B714B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A54D-E0C7-47C6-BF5D-16E52258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D732-A2FC-4D3C-ABB2-A228A0B3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FBDE-6F1D-4DA2-9B4F-BDD137D3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12C5-D271-4BB2-BF58-6637F92B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F86C-8851-4A75-ACA6-8E8C8662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AE9E-83AA-491A-AA2D-D20BE292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47B7-1968-457F-B09F-01CE1E77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8B93-BBC9-42CB-B79F-0393774D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B612-565B-4D43-95FE-700CC282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11D8-74FA-4C83-99D0-84EA31DE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B43D-8E5E-4393-87B1-3936FF54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7FCE-347A-489B-ADBF-9C636464C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8DCA-262A-47EB-B546-2ED9B275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818DC-7B36-40AA-AC0F-02DB07043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337CC-A598-4E97-A8EE-4A09DA22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6CE79-9E5F-4237-B80A-8974EB79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993CD-2815-494E-9885-23D84F28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3ACF0-4806-428D-9942-2362862D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029B-3C59-485D-8C80-9AA914C8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812AE-A578-4338-8881-E9DA39A3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79282-52A8-4FAC-9903-F45C51BA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66140-8907-430E-8A26-491D5E0B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F163F-1973-4D0C-A037-16C8F6A4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964AC-C377-4CA0-905C-D0A3D4A3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11E6C-5999-4C33-91CD-010556A2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7A28F-9BB3-4980-A8CC-833D17B1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07B42-AD10-43DA-BF7F-B05E9C271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A3081-2E69-4094-9183-ED95C64F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F6FA5-0F51-4404-8206-FFFCAF0F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FC03-DD3B-4350-8085-226D64C4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77212-6809-46E6-9A9A-61256847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E7C82-7255-4C87-939A-56709DE8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05812-A52D-42A1-A63D-8192A431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00CCB-2777-4D26-BAE8-C90856AF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1591A-14CC-4023-AACB-B75B31CE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3D02E-5536-4BF4-94BD-4BC9C198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81482-218F-4F55-B594-BC77590C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98127-1660-45B6-8A6E-653674CF6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727BB-AEF3-4533-8C1C-F55E63F40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5017-EA6A-4E91-BA3F-13295695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721C-D471-49FF-95C2-AEFE6C49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DE74-42E0-4D64-B6B8-CDE05157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BE93-6B0F-4AC5-B7CF-D9F700D7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4CE2-1D58-443C-A0B3-FC6FE77C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a66a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a66a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29dd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77b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90a2c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a66a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B11D-E78A-44B6-84CE-0C000EC55801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a66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0D90-061A-4BE9-8E54-F6C10B75BDB8}" type="slidenum">
              <a:rPr b="0" lang="ru-RU" sz="900" spc="-1" strike="noStrike">
                <a:solidFill>
                  <a:srgbClr val="4a66a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a66a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29dd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77b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90a2c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a66a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4a66a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FE1C-EE5A-4740-ABF3-900323923C75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a66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CBE7-0031-4BC7-A1DA-497B10793EB2}" type="slidenum">
              <a:rPr b="0" lang="ru-RU" sz="900" spc="-1" strike="noStrike">
                <a:solidFill>
                  <a:srgbClr val="4a66a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a66a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a66a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29dd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77b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90a2c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a66a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a2c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a2c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2FBB-7334-4388-B5C9-15B2C7D267AE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a66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8A28-DEC2-43FF-A2F7-92535C57BCB6}" type="slidenum">
              <a:rPr b="0" lang="ru-RU" sz="900" spc="-1" strike="noStrike">
                <a:solidFill>
                  <a:srgbClr val="4a66a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a66a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a66a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29dd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77b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90a2c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a66a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a2c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a2c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A6C8-8B50-40F4-913D-230232C612BD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a66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3A4E-CD92-4BC3-8544-6E6145071738}" type="slidenum">
              <a:rPr b="0" lang="ru-RU" sz="900" spc="-1" strike="noStrike">
                <a:solidFill>
                  <a:srgbClr val="4a66a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a66ac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Arial"/>
              </a:rPr>
              <a:t>Разработка стратегии бизнес-уров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Интеграция стратегий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Основополагающая конкурентная стратегия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олжна основываться на использовании основных идей базовых стратегий. В последнее время успеха добиваются компании нового типа, делающие ставки на соче­тание высокой производительности и высокого уровня дифференциа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нятие и цель бизнес-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курентные преимущества и ключевые факторы успех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азовые стратегии по М. Портер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нтеграция деловых стратеги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Бизнес-стратегия – это 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бор стратегической ориентации фирмы, являет­ся выбором базовой стратегии конкуренции относительно определенной сферы бизнес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Стратегическая цель фирмы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выделяет целевой рынок и, соответ­ственно, масштаб конкурен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Конкурентные преимущества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это способность организации производить и продавать свою продукцию (услуги) успешнее конкуренто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ывают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нутреннее конкурентное преимущество (способность произвести товар аналогичный товарам конкурентов с более низкими затратами)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нешнее конкурентное преимущество (способность придать товару большую ценность в глазах потребителей, за которую они готовы платить более высокую цену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акие конкурентные преимущества легче защитить на рынке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Ключевые факторы успеха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факторы внутренней среды, которые позволяют организации достичь успеха на рынк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ывают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ехнологически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изводственны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аркетинговы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чие (логистика, управление персоналом, инновации и т.п.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ФУ различны для различных отрасл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Базовые стратегии по М. Портеру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pic>
        <p:nvPicPr>
          <p:cNvPr id="236" name="Picture 2" descr="image3"/>
          <p:cNvPicPr/>
          <p:nvPr/>
        </p:nvPicPr>
        <p:blipFill>
          <a:blip r:embed="rId1"/>
          <a:stretch/>
        </p:blipFill>
        <p:spPr>
          <a:xfrm>
            <a:off x="571680" y="1928880"/>
            <a:ext cx="7916760" cy="4429080"/>
          </a:xfrm>
          <a:prstGeom prst="rect">
            <a:avLst/>
          </a:prstGeom>
          <a:ln w="0">
            <a:noFill/>
          </a:ln>
        </p:spPr>
      </p:pic>
      <p:sp>
        <p:nvSpPr>
          <p:cNvPr id="237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Стратегия лидерства по издержкам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ирма пренебрегает различиями в сегментах и обращается ко всему рынку сразу с одним и тем же товаром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зготовлении стандартной продукции массового спроса, когда возможности дифференциации ограничены и спрос эластичен по цене, а вероятность переключения потребителей товара на другие велик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Дифференциация -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цепция, описывающая разнообразие предложе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Ценность для покупателей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— это полезность или полное удовлетворе­ние, которое они получают при использовании товара, а также мини­мальные операционные издержки в течение всего срока его служб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По характеру направленности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можно выделить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инновационную и маркетинговую стратегии дифференциа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Фокусирование - 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иповая бизнес- стратегия, которая предполагает концентрацию на узком рыночном сегменте или конкретной группе покупателей, а также специализацию на определенной части продукции и/или географическом регион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Основная цель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аключается в удовлетворении потребностей выбранного сегмента с большей эффективностью, чем конкуренты, обслуживающие более широкий рыночный сегмент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11:29:35Z</dcterms:created>
  <dc:creator>И.В.</dc:creator>
  <dc:description/>
  <dc:language>en-US</dc:language>
  <cp:lastModifiedBy>Стародумова Инна</cp:lastModifiedBy>
  <dcterms:modified xsi:type="dcterms:W3CDTF">2015-09-29T02:30:43Z</dcterms:modified>
  <cp:revision>14</cp:revision>
  <dc:subject/>
  <dc:title>Разработка стратегии бизнес-уровня</dc:title>
</cp:coreProperties>
</file>